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D22-790E-4B92-B74B-149EC7AF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A21-E9C4-4996-B98F-572CAF96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B5E-FFFC-4892-99CE-07ACC475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5B5-7357-46C5-8D16-9D324A80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8AF5-13DE-402B-83B0-D32E8C68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0EAF-6742-4480-BCF0-AB882B98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D96F-63F3-4A3B-A2EB-36E8DCC6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6A7A-ACB0-40F6-A3BE-D5168F55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BBF5-140F-4675-A70A-1A021735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0AEA-191C-448D-83C4-22FAE025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3D52-601E-4F4F-9FBB-18F780DE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32B-F03C-4738-96D9-2D08C357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2182-E490-4B2C-8C57-27A89CF8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9E76-5446-4ABB-9A45-644D1E5D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B099-3086-4022-91FF-27DA9F88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317E-C5B6-4907-A661-A8B52CB8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59D9-22C8-4FFF-A8AC-2620786F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6C7-629F-41CF-9988-00982E6B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C04-3F1F-4CA2-9540-C304DD39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CEF-631E-46EC-A8D4-FDF9750C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ED4-D14B-44A2-9A38-8541CE14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9EE-2001-4E5E-9986-728EC44D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077-857F-4EE1-B161-8F893D97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4871-546C-48C7-B323-125E203E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5f5f5f"/>
                        </a:solidFill>
                        <a:ln w="936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prstGeom prst="pi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prstGeom prst="pi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prstGeom prst="pi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1974-0FAC-4DA0-9D3D-14F8187D23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bbe5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6b3e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5f5f5f"/>
                        </a:solidFill>
                        <a:ln w="936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prstGeom prst="pi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77777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bbe5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6b3e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965D-E648-4FC7-8A7F-91ABF1AB84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Soft skill for successful career</a:t>
            </a:r>
            <a:endParaRPr b="0" lang="en-US" sz="51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839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oft skills with special focus on IT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ft skill is the ability required and expected from persons for finding a suitable job, its maintenance and promo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5943600" y="4419720"/>
          <a:ext cx="32004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419720"/>
                    <a:ext cx="3200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Rectangle 6"/>
          <p:cNvSpPr/>
          <p:nvPr/>
        </p:nvSpPr>
        <p:spPr>
          <a:xfrm>
            <a:off x="412920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0" y="4433760"/>
          <a:ext cx="2819520" cy="24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33760"/>
                    <a:ext cx="281952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76720" y="53316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Professional ethics</a:t>
            </a:r>
            <a:endParaRPr b="0" lang="en-US" sz="51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fessional ethics is the need of the hour in Ind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a person is at the work spot, he must think of his work on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must put his heart &amp; soul into the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ch employee is a organic part of the organization &amp; must strive to contribute his mite to the successful functioning of the organiz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406728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406728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73" name="Object 6"/>
          <p:cNvGraphicFramePr/>
          <p:nvPr/>
        </p:nvGraphicFramePr>
        <p:xfrm>
          <a:off x="0" y="55440"/>
          <a:ext cx="3048120" cy="18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5440"/>
                    <a:ext cx="304812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Interpersonal Skills</a:t>
            </a:r>
            <a:endParaRPr b="0" lang="en-US" sz="51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 is a social animal &amp; his success in life largely depends on his relationship &amp; interaction with oth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must respect the views &amp; sentiments of oth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we want to differ their views, we must very politely give hints to them without wondering their feel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8160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78" name="Object 4"/>
          <p:cNvGraphicFramePr/>
          <p:nvPr/>
        </p:nvGraphicFramePr>
        <p:xfrm>
          <a:off x="7086600" y="4948200"/>
          <a:ext cx="2057400" cy="19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948200"/>
                    <a:ext cx="205740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 &amp; Stress Managemen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oritize the work &amp; schedule your time according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potent work should be allotted more time &amp; taken up fir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stening to classical music &amp; practicing Yoga will considerably reduce the physical,emotional &amp; mental stress of an individu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401004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3" name="Object 4"/>
          <p:cNvGraphicFramePr/>
          <p:nvPr/>
        </p:nvGraphicFramePr>
        <p:xfrm>
          <a:off x="6705720" y="5257800"/>
          <a:ext cx="24382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5257800"/>
                    <a:ext cx="24382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6840" y="8377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adership communication ski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eaders, executives &amp; managers need to be very clear about what they expect from other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rust your self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Keep smiling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are &amp; stay togeth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411012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7" name="Object 6"/>
          <p:cNvGraphicFramePr/>
          <p:nvPr/>
        </p:nvGraphicFramePr>
        <p:xfrm>
          <a:off x="6019920" y="4495680"/>
          <a:ext cx="31240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495680"/>
                    <a:ext cx="3124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ways learn new thing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cept responsibility for your self &amp; your a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problems &amp; challen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 grateful alw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ve your sel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97656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91" name="Object 4"/>
          <p:cNvGraphicFramePr/>
          <p:nvPr/>
        </p:nvGraphicFramePr>
        <p:xfrm>
          <a:off x="5562720" y="3886200"/>
          <a:ext cx="358128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886200"/>
                    <a:ext cx="35812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WordArt 4"/>
          <p:cNvSpPr txBox="1"/>
          <p:nvPr/>
        </p:nvSpPr>
        <p:spPr>
          <a:xfrm>
            <a:off x="457200" y="1905120"/>
            <a:ext cx="7772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2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Importance of soft skill</a:t>
            </a:r>
            <a:endParaRPr b="0" lang="en-US" sz="51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7238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oft skill are very import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handle interpersonal rel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take appropriate decis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communicate effectivel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have good impression and impact to gain professional develop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407196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0" name="Object 6"/>
          <p:cNvGraphicFramePr/>
          <p:nvPr/>
        </p:nvGraphicFramePr>
        <p:xfrm>
          <a:off x="6477120" y="4114800"/>
          <a:ext cx="26668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4114800"/>
                    <a:ext cx="26668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munication skill as soft skill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cation skills form the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rner stone of soft ski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ery human being has to essentiall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amp; effectively communicate wi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ffective communication is th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llmark of one’s educa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12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6477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ability to speak fluently using the right word in the right order is an good  communic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essage using appropriate vocabulary and syntax form effective communic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423396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6707160" y="3429000"/>
          <a:ext cx="2436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7160" y="3429000"/>
                    <a:ext cx="2436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Body language</a:t>
            </a:r>
            <a:br>
              <a:rPr sz="5100"/>
            </a:br>
            <a:endParaRPr b="0" lang="en-US" sz="51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0" y="15998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n verbal langu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ce is the index of the mind and it clearly displays the persons  intere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dy language presents to the audience what we feel &amp; think about the particular mat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: Nodding one’s he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dy language (e.g, arms crossed, standing, sitting, relaxe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otion of the sender &amp; receiver (e.g, speaking clearly, enthusiastic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3848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6248520" y="0"/>
          <a:ext cx="2895480" cy="17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0"/>
                    <a:ext cx="289548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ritten communication Skill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riting evaluates a person’s proficiency indications, spelling grammar etc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rrors committed while writing circulars, reports &amp; agenda considerably spoil the image of the wri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d visual presentation using graphics, color, balanced design layout- adds so much to written communic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ep handouts and other written materials for your present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41529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Object 6"/>
          <p:cNvGraphicFramePr/>
          <p:nvPr/>
        </p:nvGraphicFramePr>
        <p:xfrm>
          <a:off x="6781680" y="4724280"/>
          <a:ext cx="23623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4724280"/>
                    <a:ext cx="2362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 Skill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sentation skills include planning, preparation &amp; delivery of the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ing a formal speech is one form of presenta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sentation skills can be broadly categorized into physical oral, &amp; electro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03848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61" name="Object 4"/>
          <p:cNvGraphicFramePr/>
          <p:nvPr/>
        </p:nvGraphicFramePr>
        <p:xfrm>
          <a:off x="6629400" y="0"/>
          <a:ext cx="2514600" cy="20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0"/>
                    <a:ext cx="251460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ccess in life depends on presenting ideas in an appropriate manner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ok at the eyes of audience &amp; speak in a natural, conversational vo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propriate voice will make the presentation effective and interes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k for feed back from your audience about your presentation &amp; change according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presentation especially, stop occasionally to ask the audience understand what you have sai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12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Team Work</a:t>
            </a:r>
            <a:endParaRPr b="0" lang="en-US" sz="51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ople of either gender, different age groups, qualification, status &amp; skills work as a team with a common objective of accomplishing the tas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uccess of any organization largely depends on in the coordinated efforts of its employ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mainly refers to the agreeableness &amp; co-operation among the team memb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404820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67" name="Object 4"/>
          <p:cNvGraphicFramePr/>
          <p:nvPr/>
        </p:nvGraphicFramePr>
        <p:xfrm>
          <a:off x="6172200" y="0"/>
          <a:ext cx="297180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0"/>
                    <a:ext cx="297180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2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0:27:20Z</dcterms:created>
  <dc:creator/>
  <dc:description/>
  <dc:language>en-US</dc:language>
  <cp:lastModifiedBy>Bright</cp:lastModifiedBy>
  <dcterms:modified xsi:type="dcterms:W3CDTF">2013-08-23T10:27:48Z</dcterms:modified>
  <cp:revision>27</cp:revision>
  <dc:subject/>
  <dc:title>PowerPoint Presentation</dc:title>
</cp:coreProperties>
</file>